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 Amen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7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frican Amer. Spritu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8 Nelsi T. Johnson (Arr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 amen, amen, amen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O see the little bab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Lying in a mange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on Christmas morning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 amen, am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See Jesus in the temp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talking to the elders;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how they all marveled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 amen, am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See Jesus at the seashor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preaching to the people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healing all the sick ones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 amen, am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See Jesus on the cros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bearing all my si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bitter agony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 amen, am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Yes, Jesus died to save us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rose on Easter morning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lives forever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 amen, am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We're singing Alleluia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Jesus is my Savior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who lives foreve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 amen, amen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10T05:09:29Z</dcterms:modified>
  <cp:revision>30</cp:revision>
  <dc:subject/>
  <dc:title>A Shield About Me</dc:title>
</cp:coreProperties>
</file>