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hare the Lord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ryan Jefferey Lee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7 Fred Bock Music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here in Jesus’ na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is burning in our hearts like living fl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rough the loving son the Father makes us o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is a stranger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belong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ing our forgiveness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in turn forgive all wro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joins us he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br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 pours the cup is risen from the d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ne we love the most is now our gracious hos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w a fami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ich the Lord is hea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unseen he meet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reaking of the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gather soon where angels s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ll see the glory of our Lord and coming K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anticipate the feast for which we wai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ake the bread;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rink the wine; come, shar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9:04:21Z</dcterms:modified>
  <cp:revision>37</cp:revision>
  <dc:subject/>
  <dc:title>Walk With Me</dc:title>
</cp:coreProperties>
</file>