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280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cred the Body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2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0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10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Ruth Duck (1 Cor. 3:16; 13:4-7)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80080" indent="0">
              <a:lnSpc>
                <a:spcPct val="100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©1997 The Pilgrim Pres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cred the body God has creat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mple of Spirit that dwells ins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erish each person; nurture cre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eat flesh as holy, tha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may ab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dies are varied, made in all siz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le, full of color, both fragile and str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the difference, gift of the Mak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let us honor each story and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respects persons, bodies and boundar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does not batter, neglect, or abu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ouches gently, never coerc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leaves the other with power to choo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of holies, God ever lov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us your temples; indwell all we 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be careful, tender and ca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may our bodies give honor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2T05:04:36Z</dcterms:modified>
  <cp:revision>38</cp:revision>
  <dc:subject/>
  <dc:title>In His Time</dc:title>
</cp:coreProperties>
</file>