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id Haas (Mic. 6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 Live in the li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with the joy and the love of the Lord!  We are cal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light for the kingdom, to live in the freedom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ity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ct with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love tender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serve one an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humbly with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! Open your he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your mercy to all those in fear!  We are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ope for the hopeless so all hatred and blindness will be no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ct with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love tender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serve one an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humbly with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!  Sing a new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that great day when all will be one!  God will re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'll walk with each other as sisters and brothers united in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8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ct with just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love tender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serve one ano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8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humbly with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8T05:29:23Z</dcterms:modified>
  <cp:revision>25</cp:revision>
  <dc:subject/>
  <dc:title>I Am the God That Healeth Thee</dc:title>
</cp:coreProperties>
</file>