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</a:t>
            </a:r>
            <a:br>
              <a:rPr sz="4800"/>
            </a:b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(Te Ofrecemos Padre Nuestro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6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Alice Park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©1994 Abingdon Pr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,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Christ, the liv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gether with th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e holy Three-in-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l trigo de los camp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an se convirtió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haz de nuestras vid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y el cuerpo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pobres de la ti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que sufriendo está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bia su dolor en vi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uva en el la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tos dones son el sig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esfurezo de un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la humanidad realiz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amp y la ciu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tu pueblo quien t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re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los dones del al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naturaleza ente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helando liber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sea dada al Pad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 su Hijo Reden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l Espiritu Divi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llena de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l trigo de los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p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an se convirtió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owing wheat will rip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w to all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05320"/>
            <a:ext cx="9524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haz de nuestras vid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y el cuerpo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grow and ripen als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ving of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owing wheat will rip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how to all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 grow and ripen als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ving of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pobres de la tier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 que sufriendo está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and heavy lad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at the Savior’s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bia su dolor en vi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uva en el lag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ir grief will turn to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apes are press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tos dones son el sig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esfurezo de unid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ountry, from the c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ches of the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la humanidad realiz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amp y la ciu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back to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81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 of heart and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tu pueblo quien t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re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los dones del alt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our people here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you offerings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naturaleza enter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helando liber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ing with your whole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libert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sea dada al Pad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 su Hijo Reden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,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Christ, the liv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al Espiritu Divi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llena de su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gether with th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e holy Three-in-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cemos, Padre nuestr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el vino y con el p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utras pena y alegrí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trabajo y nuestro af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6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oor and heavy lad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at the Savior’s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ir grief will turn to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grapes are pressed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ountry, from the c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iches of the l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ring back to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 of heart and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offe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read and with the w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joys and all our sorrow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cares, Lord,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our people here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you offerings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ing with your whole cre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libert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19:07:44Z</dcterms:modified>
  <cp:revision>29</cp:revision>
  <dc:subject/>
  <dc:title>Walk With Me</dc:title>
</cp:coreProperties>
</file>