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side M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6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79f"/>
                </a:solidFill>
                <a:latin typeface="Arial"/>
              </a:rPr>
              <a:t>St. Patrick's Breastpl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side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fore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hind m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of 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ithin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low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above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to p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on my right hand, Christ on my left h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all around m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eld in the strif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n my sleeping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n my sitt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n my rising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my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side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fore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hind m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of 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ithin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low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above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to p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7T05:43:19Z</dcterms:modified>
  <cp:revision>19</cp:revision>
  <dc:subject/>
  <dc:title>I Am the God That Healeth Thee</dc:title>
</cp:coreProperties>
</file>