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82160" y="5505480"/>
            <a:ext cx="78552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Lord Bless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Keep You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280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Jim Strathdee (Num. 6:24-26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81 Desert Flower Music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Lord bless and keep you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Lord make his face to shine on you and be gracious, graciou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Lord bless and keep you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Lord lift his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untenance on you and give peac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ive you peac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alom. Shalom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21T17:42:14Z</dcterms:created>
  <dc:creator>Gary Wintergerst</dc:creator>
  <dc:description/>
  <dc:language>en-US</dc:language>
  <cp:lastModifiedBy>Gary Wintergerst</cp:lastModifiedBy>
  <dcterms:modified xsi:type="dcterms:W3CDTF">2001-04-04T04:38:40Z</dcterms:modified>
  <cp:revision>51</cp:revision>
  <dc:subject/>
  <dc:title>Walk With Me</dc:title>
</cp:coreProperties>
</file>