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 of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3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nton Utterbach (Prov. 18: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9 Universal Polygram Intl. Publ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 most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 most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 most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the name of the Lord most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the name of the Lord most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04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ame of the Lord is a strong t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4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ighteous run into it and they are sav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4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ame of the Lord is a strong t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4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ighteous run into it and they are sav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is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is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is the name of the Lord most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is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is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is the name of the Lord most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 most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17:1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4T22:17:20Z</dcterms:modified>
  <cp:revision>19</cp:revision>
  <dc:subject/>
  <dc:title>As the Deer</dc:title>
</cp:coreProperties>
</file>