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289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th Is Patienc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Night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11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Mary Nelson Keithah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2000 Abingdon Pres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th is patience in the n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iting for the morning l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ver giving up the f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 God give us fai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th is laughter in the pai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 in pleasures that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mai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ust in one we can't explai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 God give us fai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th is steadfast will to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ing firm and positi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ing ready still to gi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 God give us fai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th is courage under stres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fidence in hopelessnes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est gift we can posses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 God give us fai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3T12:48:26Z</dcterms:created>
  <dc:creator>Gary Wintergerst</dc:creator>
  <dc:description/>
  <dc:language>en-US</dc:language>
  <cp:lastModifiedBy>Gary Wintergerst</cp:lastModifiedBy>
  <dcterms:modified xsi:type="dcterms:W3CDTF">2001-03-17T15:19:51Z</dcterms:modified>
  <cp:revision>14</cp:revision>
  <dc:subject/>
  <dc:title>In His Time</dc:title>
</cp:coreProperties>
</file>