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Beyond All Prai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ichael Perry (Heb 13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Jubilate Hym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beyond all praising, we worship you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he love amazing that songs cannot rep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can only wonder at every gift you s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blessings without number and mercies without 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hearts before you and wait upon your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onor and adore you, our great and might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ear, O gracious Savior, accept the lov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who know your favor may serve you as our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ther our tomorrows be filled with good or i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riumph through our sorrows and rise to bless you still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rvel at your beauty and glory in your w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a joyful duty our sacrifice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4-05T00:40:28Z</dcterms:modified>
  <cp:revision>14</cp:revision>
  <dc:subject/>
  <dc:title>A Shield About Me</dc:title>
</cp:coreProperties>
</file>