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Live S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live so (live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(anytime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live so (live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work so (work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(anytime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work so (work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pray so (pray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(anytime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pray so (pray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sing so (sing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(anytime!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gonna sing so (sing so) God can us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ywhere, Lord, anyti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16:06:41Z</dcterms:modified>
  <cp:revision>10</cp:revision>
  <dc:subject/>
  <dc:title>No Slide Title</dc:title>
</cp:coreProperties>
</file>