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pirit Sends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s Forth to Ser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4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Delores Dufner, OSB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3 Delores Dufn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pirit sends us forth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rv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go in Jesus' na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ring glad tidings to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oo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favor to proclai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go to comfort thos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mour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et the burdened fre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ope is dim, to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re a drea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lp the blind to s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go to be the hands of Chris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catter joy like se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, all our days, to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erish lif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do the loving de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let us go to serve in pe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ospel to proclai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Spirit ha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mpowered u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go in Jesus'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3-25T01:00:59Z</dcterms:modified>
  <cp:revision>14</cp:revision>
  <dc:subject/>
  <dc:title>A Shield About Me</dc:title>
</cp:coreProperties>
</file>