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, Almight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0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oni Huism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4 Coni Huism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, Almighty, Savior, Redeem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rue God to be worshiped and praise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we tell you how much we love you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now our lives, Lord, and teach us to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fear for I have redeemed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mine, by name I have called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you walk through the wate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my witnesses, created for my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the nations I am the Savior.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them I am the Lord.”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, Almighty, Savior, Redeem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rue God to be worshiped and praise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we tell you how much we love you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now our lives, Lord, and teach us to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t for joy, O heavens, and rejoice, O ea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joyful shouting let the mountains break fo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rd will comfort his people, show compassion to those afflict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not leave to shame those who trust in his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 we praise you. Jesus, we lov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, we thank you for the gifts of new lif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we tell you how much we love you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now our lives, Lord, and teach us to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3-06-18T17:14:53Z</dcterms:modified>
  <cp:revision>11</cp:revision>
  <dc:subject/>
  <dc:title>A Shield About Me</dc:title>
</cp:coreProperties>
</file>