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anto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uillermo Cuélla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6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ios los que en su nomb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evangelio anunc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buena y gran noti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libe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all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hist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past and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compaña a nuestro puebl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vive en nuestra luch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dle of the vill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us in our struggl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universo enter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único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onl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ios los que en su nomb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evangelio anunc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to the one who teach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od news of the Gosp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buena y gran noti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liber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age of salv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and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all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holy, holy, holy is our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rd of past and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 is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dle of the vill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us in our struggl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onl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to the one who teach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od news of the Gosp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age of salv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and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, 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es nuestro Di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de toda la hist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, santo es nuestro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compaña a nuestro puebl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vive en nuestra luch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universo enter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único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6:19:31Z</dcterms:modified>
  <cp:revision>25</cp:revision>
  <dc:subject/>
  <dc:title>A Shield About Me</dc:title>
</cp:coreProperties>
</file>