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Deares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M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German (Luke 2:1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, and loves and saves, and frees 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dearest, Joseph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cradle the child di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eward thee and all that's th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aradise, so prays the mother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among us at Christmas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 time, in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ing him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diadem: Jesus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, and loves and saves, and frees 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, dear one, lady m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I cradle this child of th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light on us both shall sh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aradise, as prays the mother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among us at Christmas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 time, in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ing him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diadem: Jesus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, and loves and saves, and frees 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hall come and bow the kn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 and happy their souls shall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uch a divi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ll may see in Jesus,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among us at Christmas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 time, in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ing him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diadem: Jesus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6T16:05:42Z</dcterms:modified>
  <cp:revision>57</cp:revision>
  <dc:subject/>
  <dc:title>A Shield About Me</dc:title>
</cp:coreProperties>
</file>