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 with M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Noho Pū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9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cques Berthi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4 Les Presses de Taiz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ho pū noho mai me ia'u kia'i a pule kiai a pu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 with me, remain here with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 and pray, watch and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 with me, remain here with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 and pray, watch and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 here and keep watch wi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 and pray, watch and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 and pray not to give w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empt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irit is eag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 flesh is wea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is nearly broken with sorr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ain here with me, stay awake and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if it is possible let this cup pass me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if this cannot pass me by without m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inking 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ill be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6T15:11:56Z</dcterms:modified>
  <cp:revision>55</cp:revision>
  <dc:subject/>
  <dc:title>I Am the God That Healeth Thee</dc:title>
</cp:coreProperties>
</file>