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mes E. Moore (Ps. 34:1-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3 GIA Publications, Inc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, taste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goodness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aste and see, taste and see the goodness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bless the Lord at all ti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shall always be on my lip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shall glory in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has been so goo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, taste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goodness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aste and see, taste and see the goodness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462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fy the Lord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let us all praise God’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lled the Lord who answered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my troubles I was set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, taste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goodness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aste and see, taste and see the goodness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the Lord, all you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’ll want nothing if you as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 that the Lord is goo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od we need put all our tr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ste and see, taste an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goodness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aste and see, taste and see the goodness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04:52:03Z</dcterms:modified>
  <cp:revision>35</cp:revision>
  <dc:subject/>
  <dc:title>Walk With Me</dc:title>
</cp:coreProperties>
</file>