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d and Fath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Us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4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ete Carlson &amp; Kyle Matthew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9 New Spring Publis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e God and Father of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and through all and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nd of holy unity with our spirits joined as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live lives worthy of the c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one God and Father of 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gifts that God has given by his grace to every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meant to give us each a place to ser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we will come together to see his will be d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hare in blessing more than we deser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e God and Father of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and through all and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nd of holy unity with our spirits joined as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live lives worthy of the c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one God and Father of 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differences among us God can us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us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apestry, his liv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 of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ve that unifies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faith that lead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follow with one purpose and one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e God and Father of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and through all and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nd of holy unity with our spirits joined as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live lives worthy of the c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one God and Father of 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ody, one peace, one spirit, one faith, one hop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each of us,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4T05:25:04Z</dcterms:modified>
  <cp:revision>13</cp:revision>
  <dc:subject/>
  <dc:title>A Shield About Me</dc:title>
</cp:coreProperties>
</file>