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Ga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Your T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arl P. Daw, J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89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gather at your tab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listen to your 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know, O God, your presen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hearts and minds be stir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urish us with sacred st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laim it as our 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hrough this holy banqu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make Love’s victory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our worship into wit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acrament of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forth to love and serv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peace where there is str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, Christ, your great compa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rgive as you forga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till behold your im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orld you died to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Spirit, help us summ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 guests to share that f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riumphant Love will wel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had been last and l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no more will envy blind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ill pride our peace destro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join with saints and ange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peat the sounding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18:54:13Z</dcterms:modified>
  <cp:revision>36</cp:revision>
  <dc:subject/>
  <dc:title>Walk With Me</dc:title>
</cp:coreProperties>
</file>