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Many Na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ian Wr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, 1994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many na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and go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, in parable and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iness in gl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lov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many name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mothe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night and d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nning all the wonders of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ting each equ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ius at pl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mothe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m father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gging every chil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ing all the strains of human li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ing and forgiv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're reconcil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m fathe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d, ach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y with endless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mly piercing evil's new disguis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of good surpris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r than despai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d, ach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ng, grow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ger on the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 no to falsehood and unkind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ing out for just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all you hav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ng, grow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, living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ully 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darkness far beyond our se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r yet than breath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ho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and Hosann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, living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0:52:41Z</dcterms:modified>
  <cp:revision>10</cp:revision>
  <dc:subject/>
  <dc:title>A Shield About Me</dc:title>
</cp:coreProperties>
</file>