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 Now to Gather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6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Mary Nelson Keithahn (Lk. 22:19-2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8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 now to gather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 now to fe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’s holy presenc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ng the me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in from the harvest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uit of the vi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mple the supper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cred the s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 to remembe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ho was sen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 to say, “Thank you”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at he mean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this table.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without f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forgive you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come you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are hungry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nd be f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e one another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cup and this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are troubled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rting, or s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nd find healing.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nd be gla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1T00:32:57Z</dcterms:modified>
  <cp:revision>33</cp:revision>
  <dc:subject/>
  <dc:title>Walk With Me</dc:title>
</cp:coreProperties>
</file>