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lessed Quietness </a:t>
            </a:r>
            <a:br>
              <a:rPr sz="4800"/>
            </a:b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142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Manie P. Ferguso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at a wonderful salvation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we always see Christ's fac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at a perfect habitation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at a quiet resting plac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lessed quietness, holy quietness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at assuredness in my soul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n the stormy sea, Jesus speaks to m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the billows cease to roll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oys are flowing like a river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ince the Comforter has come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rist abides with us forever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akes the trusting heart a ho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lessed quietness, holy quietness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at assuredness in my soul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n the stormy sea, Jesus speaks to m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the billows cease to roll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ringing life and health and gladness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around this heavenly Gues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anished unbelief and sadness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anged our weariness to rest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lessed quietness, holy quietness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at assuredness in my soul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n the stormy sea, Jesus speaks to m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the billows cease to roll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ke the rain that falls from heaven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ke the sunlight from the sky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 the Spirit too is given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ing on us from on high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lessed quietness, holy quietness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at assuredness in my soul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n the stormy sea, Jesus speaks to m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the billows cease to roll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ee a fruitful field is growing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lessed fruit of righteousness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the streams of life are flowing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the lonely wildernes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lessed quietness, holy quietness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at assuredness in my soul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n the stormy sea, Jesus speaks to m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the billows cease to roll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1-01T18:00:46Z</dcterms:created>
  <dc:creator>Gary Wintergerst</dc:creator>
  <dc:description/>
  <dc:language>en-US</dc:language>
  <cp:lastModifiedBy>Gary Wintergerst</cp:lastModifiedBy>
  <cp:lastPrinted>1996-01-02T13:57:40Z</cp:lastPrinted>
  <dcterms:modified xsi:type="dcterms:W3CDTF">2001-03-03T20:44:27Z</dcterms:modified>
  <cp:revision>6</cp:revision>
  <dc:subject/>
  <dc:title>No Slide Title</dc:title>
</cp:coreProperties>
</file>