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78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Trad. Honduran (Ps. 150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7 GIA Publications, Inc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. Alleluia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. Allelui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. Allelui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the Lord is risen inde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!  Praise God in the temple, in the highest heaven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!  Praise God’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ghty deeds and noble majest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. Alleluia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. Allelui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. Allelui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the Lord is risen inde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!  Praise God with trumpet blasts, with lute and harp.  Prais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God with timbrels and dance, with strings and pipe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. Alleluia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. Allelui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. Allelui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the Lord is risen inde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!  Praise God with crashing cymbals, with ringing cymbal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at is alive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, praise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. Alleluia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. Allelui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. Allelui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the Lord is risen inde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4-03T04:35:46Z</dcterms:modified>
  <cp:revision>22</cp:revision>
  <dc:subject/>
  <dc:title>A Shield About Me</dc:title>
</cp:coreProperties>
</file>