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Abov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Harvest Song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zu-chen Cha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our God above, source of boundless lov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wind, summer rain, then the harvest gr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rly rice and corn, fragrant autumn m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our work is hard, God gives us rew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are like a cloak wraps us humble folk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all green things grow, ripens what we s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od we are strong; sing our harvest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, field and flower, praise God's mighty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8T02:42:08Z</dcterms:modified>
  <cp:revision>22</cp:revision>
  <dc:subject/>
  <dc:title>A Shield About Me</dc:title>
</cp:coreProperties>
</file>