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ne, Wild Bi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s. 1-3 by Henry Richard McFayden, alt.;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s. 4-5 by, Marty Haugen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(Ps 139:2-4, 13-15, 23-2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Sts. 4-5 ©1991 GIA Publications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ne, wild bird in lofty f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till with you, nor leaves your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am yours!  I re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come rest in me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nds of earth are in your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a's dark deep and far-off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am yours!  I re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come, rest in m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secret thought is known to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th I walk my whole life throu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ys, my deeds, my hopes, my f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eepest joys, my silent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ecret depths you knit my fr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my birth you spoke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y soul, as close as br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near to me, in life, in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earch me, God, my heart revea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 my life, my spirit hea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am yours, I rest in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come, rest in me,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28T16:14:31Z</dcterms:modified>
  <cp:revision>16</cp:revision>
  <dc:subject/>
  <dc:title>A Shield About Me</dc:title>
</cp:coreProperties>
</file>