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a Par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2 Singspiration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 King of k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 Lamb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glorify the Lord of lor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gre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Jehovah reigns in majes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ow before the thr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ship him in righteou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orship him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heaven, Lord of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of all who li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 above the univer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him we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to the King of k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to the Lamb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 to the Lord of l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great I 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23:10:21Z</dcterms:modified>
  <cp:revision>44</cp:revision>
  <dc:subject/>
  <dc:title>A Shield About Me</dc:title>
</cp:coreProperties>
</file>