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Straightwa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only son, no sin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have sent him from your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upon this guilty s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become the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ift of love they cruc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aughed and scorned him as h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king they named a fra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crificed the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swe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 holy Lamb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his precious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 Christ,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so lost, I should have d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have brought m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led by your staff and 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be called a lamb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swee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mb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 holy Lamb of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his precious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 Christ,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8T22:46:44Z</dcterms:modified>
  <cp:revision>72</cp:revision>
  <dc:subject/>
  <dc:title>A Shield About Me</dc:title>
</cp:coreProperties>
</file>