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Ye, Go Y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the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Natalie Sleeth (Matt. 28:18-2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9 Choristers Guil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ye, go ye into the world, and make disciples of all the nation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ye, go ye into the world, and I will be with you the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ye, go ye into the world, and take the gospel to all the peop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ye, go ye into the world, and I will be with you the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ye, go ye into the world, and tell the story to all believe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ye, go ye into the world, and I will be with you the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3-24T04:05:04Z</dcterms:modified>
  <cp:revision>12</cp:revision>
  <dc:subject/>
  <dc:title>A Shield About Me</dc:title>
</cp:coreProperties>
</file>