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9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ordon Light (Ps. 30: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Common Cup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ing may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ing may come in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rk shadows cloud 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will tu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will turn into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laughter mak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rejoice, and give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One who brings u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2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springs from the to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the night with her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comes with the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33:52Z</dcterms:modified>
  <cp:revision>13</cp:revision>
  <dc:subject/>
  <dc:title>In His Time</dc:title>
</cp:coreProperties>
</file>