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ree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Fiel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7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teffi Geiser Ruben (Isa. 55:1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5 Lillenas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shall go out with joy and be led forth with pea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ountains and the hills will break fort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fore you; there’ll be shouts of jo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the trees of the field will clap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clap their hand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the trees of the field will clap their hand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rees of the field will clap their hand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rees of the field will clap their hand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you go out with jo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4-01T20:56:34Z</dcterms:modified>
  <cp:revision>48</cp:revision>
  <dc:subject/>
  <dc:title>Walk With Me</dc:title>
</cp:coreProperties>
</file>