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ed Spring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usan Palo Cherwi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Susan Palo Cherwi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ed spring, where Word and sig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brace us into Christ the Vin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Christ enjoins each one to b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ranch of this lifegiving T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summer heat and youthful y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certain faith, rebellious t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stained by Christ's infusing r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oughs will shout for joy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utumn cools and youth is co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imbs their heavy harvest ho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hrough us warm, the Christ will m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ifts of beauty wisdom,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inter comes, as winters mu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reathe our last, return to du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held in Christ, our souls take w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rust the promise of the sp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holy Vine, Christ, living T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praised for this blest myster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ord and water thus rev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oin us to your Tree of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0T05:41:19Z</dcterms:modified>
  <cp:revision>34</cp:revision>
  <dc:subject/>
  <dc:title>A Shield About Me</dc:title>
</cp:coreProperties>
</file>