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Tempted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Deser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0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Herman G. Stuempfle, Jr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3 GIA Publications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tempted in the deser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nely, hungry, filled with dread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Use your power," the tempter tells him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Turn these barren rocks to bread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Not alone by bread," he answer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Can the human heart be fill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ly by the Word that calls 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our deepest hunger stilled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tempted at the templ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gh above its ancient wall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Throw yourself from lofty turre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gels wait to break your fall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shuns such empty marvel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ats that fickle crowds request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God, whose grace protects, preserves 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must never vainly test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tempted on the mountai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e lure of vast domain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Fall before me!  Be my servan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, fame, you're sure to gain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sees the dazzling vis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urns his eyes another way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God alone deserves our homag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alone will I obey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face temptation's pow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nely, struggling, filled with drea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who knew the tempter's hou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be our living bre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your grace, protect, preserve 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st we fall your trust betr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s, above all other voic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the Word we hear, obe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7T22:29:42Z</dcterms:modified>
  <cp:revision>63</cp:revision>
  <dc:subject/>
  <dc:title>A Shield About Me</dc:title>
</cp:coreProperties>
</file>