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Eres Dign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Latin Ameri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2000 Abingdon Press (Trans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glorioso, majestuos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ll glorious, all victorious, praise and honor ar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, God almighty, praise and honor to you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, God almighty, praise and honor to you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ll glorious, all victorious, praise and honor ar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ll glorious, all victorious, praise and honor ar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s digno, eres dign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s digno, eres dign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glorioso, majestuos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glorioso, majestuos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s digno, eres dign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, God almighty, praise and honor to you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s digno, eres dign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rthy, God almighty, praise and honor to you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glorioso, majestuoso, eres digno de ado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ll glorious, all victorious, praise and honor ar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5:41:48Z</dcterms:modified>
  <cp:revision>22</cp:revision>
  <dc:subject/>
  <dc:title>A Shield About Me</dc:title>
</cp:coreProperties>
</file>