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rgentine folk song (Isa 6: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my heart adores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knows how to say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ly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ador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 sabe dec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 eres, Di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my heart adores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, santo, s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ador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733920"/>
            <a:ext cx="8305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knows how to say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holy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orazón te  sabe decir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 eres, Dio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2-06-21T20:39:32Z</dcterms:modified>
  <cp:revision>14</cp:revision>
  <dc:subject/>
  <dc:title>A Shield About Me</dc:title>
</cp:coreProperties>
</file>