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when the world is silent, oh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the world is silent, oh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the world is silent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nd when I'm feeling lonely, 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'm feeling lonely, 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'm feeling lonely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Now when I think on Jesus, no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 think on Jesus, no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I think on Jesu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mm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my head, I hear music in the ai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ust be a God some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1:31:01Z</dcterms:modified>
  <cp:revision>12</cp:revision>
  <dc:subject/>
  <dc:title>No Slide Title</dc:title>
</cp:coreProperties>
</file>