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Perdón, Señor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rge Lockward, R. Martínez (trans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antas injusticia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anta indiferenc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or grievance and injusti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Lord.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loofness and indifferen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odos nuestras falta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nuestra rebeld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or weakness and transgressio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Resistance and rebellio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En tu missericord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u divina grac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your eternal mercy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your sustaining gra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or grievance and injusti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loofness and indifferen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or weakness and transgressio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Resistance and rebellio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your eternal mercy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your sustaining grac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u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antas injusticia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anta indiferenc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todos nuestras falta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or nuestra rebeld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En tu missericord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u divina graci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2:23:17Z</dcterms:modified>
  <cp:revision>97</cp:revision>
  <dc:subject/>
  <dc:title>A Shield About Me</dc:title>
</cp:coreProperties>
</file>