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re Calle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ing Your Pra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y Nelson Keithah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2000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re called to sing your praise with hearts so filled with p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 would rather sit and weep or stand up to compl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ind us, God, you understand the burdens that we bea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, too, have walked the shadowed way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n our deep despai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re called to sing your praise and cannot find our v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our losses leav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now no reason to rej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ind us, God, that you accept our sad lament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ray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, too, have walked the shadowed way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n our deep despai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re called to sing your praise and lif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head looks gri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give us faith and hope enough to break forth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ym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thankful hymn, great God of love, that you are everywhe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, walk the shadowed way with us and keep u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8T03:29:07Z</dcterms:modified>
  <cp:revision>19</cp:revision>
  <dc:subject/>
  <dc:title>In His Time</dc:title>
</cp:coreProperties>
</file>