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Ris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om Colv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9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conquered dea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conquered dea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conquered deat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conquered dea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 has done its wor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 has done its wor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 has done its wor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 has done its wor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King of king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King of king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King of king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King of king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of lor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of lor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of lor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of lor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 is h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 is h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 is h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 is h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worship hi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worship hi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worship hi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worship hi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ur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ur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ur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ur Lord is ris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9T05:23:21Z</dcterms:modified>
  <cp:revision>76</cp:revision>
  <dc:subject/>
  <dc:title>A Shield About Me</dc:title>
</cp:coreProperties>
</file>