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igh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rom the litur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8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God, heavenly K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almighty God and Fathe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worship you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give you thanks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we praise you for your glory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Jesus Christ, only Son of the Father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ord God, Lamb of God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 take away the sin of the world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ave mercy on us;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ead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You are seated at the right hand of the Father:  receive our praye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omen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lone are the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, you alone are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High, Jesus Chri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All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Spirit in the glory of God the Fath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lory to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in the high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God’s people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33:10Z</dcterms:modified>
  <cp:revision>45</cp:revision>
  <dc:subject/>
  <dc:title>Walk With Me</dc:title>
</cp:coreProperties>
</file>