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he is living the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the tomb he is rise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conquered death, opened heaven to all believ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the first fruits from d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re our lives filled with gl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rkness vanishes in the light of his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ght hand of God raised me u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and of the Lord has triumph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never die; I shall live telling his dee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one which the builders reject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omes the cornerstone chos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74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work of God for this marvel in our ey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4-05T01:48:25Z</dcterms:modified>
  <cp:revision>14</cp:revision>
  <dc:subject/>
  <dc:title>Give Thanks</dc:title>
</cp:coreProperties>
</file>