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nd th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iet Cent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FWS 212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hirley Erena Murr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©1992 Hope Publishing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nd the quiet cent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rowded life w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d the room for hope to en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d the frame where we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free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ar the chaos and the clut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ar our eyes that we can s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things that really mat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at peace, and simply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ce is a friend who claims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ols the heat and slows the p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t is who speaks and names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s our being, touches ba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ing space within our thin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ing shades to show the su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ing courage when we're shrin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ding scope for faith beg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795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pirit let us trav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to each other's p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our loves and fears unrav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the space we gain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95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place for deepest dream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time for heart to ca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pirit's lively schem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7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lways room to sp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6T20:29:32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2-06-19T15:04:18Z</dcterms:modified>
  <cp:revision>91</cp:revision>
  <dc:subject/>
  <dc:title>A Shield About Me</dc:title>
</cp:coreProperties>
</file>