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9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niel Charles Dam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3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love would send to reveal and to m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and a friend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may find claiming heart, soul, and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strong and kind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will meet, ragged clothes, dirty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on the street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once knew coming back into vie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born anew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born to pray and to show us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here to stay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receive all that love can concei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child we believe, Jesus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38:43Z</dcterms:modified>
  <cp:revision>49</cp:revision>
  <dc:subject/>
  <dc:title>A Shield About Me</dc:title>
</cp:coreProperties>
</file>