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ctua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Thompson &amp; Randy Scrugg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, 1996 Whole Armor/Full Arm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5573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prepare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a sanctu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 and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ed and tru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anksgiv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be a liv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5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ctuary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3-07T05:32:08Z</dcterms:modified>
  <cp:revision>16</cp:revision>
  <dc:subject/>
  <dc:title>A Shield About Me</dc:title>
</cp:coreProperties>
</file>