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ólo Tú Eres San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. 2 Jorge Lockw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cruz moriste y resucitas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me diste vida y muy pronto volv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sins you suffered, died and resurr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ing us salvation, giving us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 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rama tu Espiritu y que tu luz bril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 Holy Spirit; may it shine up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tu gloria llene ahora mismo este lu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wondrous glory with its radiance fill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sins you suffered, died and resurrect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ing us salvation, giving us eternal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 Holy Spirit; may it shine upo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wondrous glory with its radiance fill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cruz moriste y resucitast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me diste vida y muy pronto volv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rrama tu Espiritu y que tu luz bril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tu gloria llene ahora mismo este lu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tú eres santo, sólo tú eres dig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hermoso y maravillo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holy; you alone are worth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illed with splendor and awesome wonder. 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55:43Z</dcterms:modified>
  <cp:revision>35</cp:revision>
  <dc:subject/>
  <dc:title>A Shield About Me</dc:title>
</cp:coreProperties>
</file>