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e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tin J. Nystr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Marantha Praise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eer pants for the wa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y soul longs afte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heart's des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ng to worship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strength, my shiel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alone may my spirit yie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lone are my heart's des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ng to worship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5T17:1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2002-06-21T04:00:08Z</dcterms:modified>
  <cp:revision>7</cp:revision>
  <dc:subject/>
  <dc:title>As the Deer</dc:title>
</cp:coreProperties>
</file>