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3341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s a Fire Is Meant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Burning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FWS 2237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Ruth Duck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©1992 GIA Publications, Inc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s a fire is meant for burning with a bright and warming flam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o the church is meant for mission, giving glory in God's nam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t to preach our creeds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r customs, but to build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 bridge of car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join hands across the nations, finding neighbors everywher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are learners; we are teachers; we are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ilgrims on the wa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are seekers; we are givers; we are vessels made of cla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y our gentle, loving actions we would show that Christ is light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a humble listening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pirit we would live to God's delight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s a green bud in the springtime is a sign of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ife renewed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o may we be signs of oneness 'mid earth's peoples, many hue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s a rainbow lights the heavens when a storm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s past and gon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ay our lives reflect the radiance of God's new and glorious daw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6T20:29:32Z</dcterms:created>
  <dc:creator>Gary Wintergerst</dc:creator>
  <dc:description/>
  <dc:language>en-US</dc:language>
  <cp:lastModifiedBy>Gary Wintergerst</cp:lastModifiedBy>
  <cp:lastPrinted>1995-07-02T14:48:50Z</cp:lastPrinted>
  <dcterms:modified xsi:type="dcterms:W3CDTF">2001-03-23T05:48:04Z</dcterms:modified>
  <cp:revision>10</cp:revision>
  <dc:subject/>
  <dc:title>A Shield About Me</dc:title>
</cp:coreProperties>
</file>