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Nada Te Turb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. Teresa de Jesú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ek God shall never go want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fills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a Dios tiene nada le fal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o Dios bas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a Dios tiene nada le fal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ek God shall never go want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da te turbe, nada te espan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o Dios bast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trouble, nothing can fright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 fills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40:10Z</dcterms:modified>
  <cp:revision>17</cp:revision>
  <dc:subject/>
  <dc:title>A Shield About Me</dc:title>
</cp:coreProperties>
</file>