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yrie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7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ncient Gree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yrie, Kyrie eleis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yrie, Kyrie eleis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e, Christe eleis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e, Christe eleis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yrie, Kyrie eleis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yrie, Kyrie eleison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eis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4-01T02:18:44Z</dcterms:modified>
  <cp:revision>44</cp:revision>
  <dc:subject/>
  <dc:title>Walk With Me</dc:title>
</cp:coreProperties>
</file>