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lk by Faith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nry Alf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lk by faith, and not by sigh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gracious words we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spoke as none e'er spok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believe him n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not touch 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s and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follow where he tr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n his promise we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y, "My Lord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hen, O Lord, our unbelief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our faith abou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all on you when you are n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ek where you are fou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en our life of faith is d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ealms of clearer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behold you as you a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ull and endless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lk by faith, and not by sigh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gracious words we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spoke as none e'er spok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believe him n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4-04T04:54:07Z</dcterms:modified>
  <cp:revision>53</cp:revision>
  <dc:subject/>
  <dc:title>I Am the God That Healeth Thee</dc:title>
</cp:coreProperties>
</file>