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imothy Dudley-Smith (Ps. 9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3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to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 whom wonders be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his triumph and tell of his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to the Lord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the ends of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s salvation is show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remembers his mercy and tru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hanging in love to hi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and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his praises abro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voices in chorus, with trumpet and h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ound for the joy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ith the hills and the s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nders of praise to prol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udgment and justice he comes to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to the Lord a new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3:55:31Z</dcterms:modified>
  <cp:revision>15</cp:revision>
  <dc:subject/>
  <dc:title>Give Thanks</dc:title>
</cp:coreProperties>
</file>