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Marching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Siyahambra / Caminando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35b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outh Afric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4 Utryck; Used by permission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ndo en la luz de Di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ndo en la luz de Di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ndo en la luz de Di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ndo en la luz, en la luz de Di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ndo, vamos, caminand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mos, caminando en la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uz de Dio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marching in the light of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marching in the light of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marching in the light of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marching in the light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marching, marching, we are marching, march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marching in the light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inging, singing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inging , singing, we are singing for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is our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yah hahm buh ko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ah nigh nee kwen koh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yah hahm buh ko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ah nigh nee kwen koh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yah hahm buh ko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ah nigh nee kwen koh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yah hahm buh ko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ah nigh nee, koo ka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gh nee kwen koh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yah hahm buh, hahm buh, see yah hahm bu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hm buh, see yah hahm buh koo kah nigh nee kwen koh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2-06-22T20:30:45Z</dcterms:modified>
  <cp:revision>29</cp:revision>
  <dc:subject/>
  <dc:title>In His Time</dc:title>
</cp:coreProperties>
</file>