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now La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Grou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glo-English carol (Luke 2:1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now lay on the gr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s shone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 our Lord was born on Christmas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Mary, daughter pure of holy An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rought into this world the God made m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laid him in a stall at Bethlehe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ss and oxen shar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oof with t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the manger poor became a thr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whom Mary bore was God the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en, let us join the heavenly ho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ise the Father, Son, and Holy Gho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 Dominu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45:16Z</dcterms:modified>
  <cp:revision>50</cp:revision>
  <dc:subject/>
  <dc:title>A Shield About Me</dc:title>
</cp:coreProperties>
</file>