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720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720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jestic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720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Your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720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720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2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ichael W. Smith (Ps 8:1-9, Is 9:6) 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1 Meadowgreen Music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our Lord, how majestic is your name in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our Lord, how majestic is your name in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e praise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e magnify your nam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ince of Peace, mighty Go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 God Almigh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our Lord, how majestic is your name in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our Lord, how majestic is your name in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e praise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e magnify your nam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ince of Peace, mighty Go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 God Almigh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2T23:39:39Z</dcterms:modified>
  <cp:revision>11</cp:revision>
  <dc:subject/>
  <dc:title>A Shield About Me</dc:title>
</cp:coreProperties>
</file>