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ght 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3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ob Huds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78 Maranatha! Mus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er and hig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 thyself in the sight of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er and hig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lift you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2-26T01:44:01Z</dcterms:modified>
  <cp:revision>93</cp:revision>
  <dc:subject/>
  <dc:title>A Shield About Me</dc:title>
</cp:coreProperties>
</file>