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egan Court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Broadma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this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for the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’s own will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the si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the p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do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your neighbors i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, eat, and b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fort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and remember, to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is is my body and precious blood shed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for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membrance of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’t look ab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your heart, look fo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this in remembrance of me.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4T04:48:50Z</dcterms:modified>
  <cp:revision>20</cp:revision>
  <dc:subject/>
  <dc:title>Walk With Me</dc:title>
</cp:coreProperties>
</file>