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ail King Jesu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ave Mood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4 Dayspring Music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ail King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ail Emmanue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kings, Lord of lords, bright morning St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roughout eternity, I'll sing your praise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reign with you throughout eter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9T02:45:13Z</dcterms:modified>
  <cp:revision>27</cp:revision>
  <dc:subject/>
  <dc:title>A Shield About Me</dc:title>
</cp:coreProperties>
</file>