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Da Pacem Cordium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o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 to ever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 to ever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eace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 pacem cordi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 pacem cordi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 pacem. Da pac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5T05:31:55Z</dcterms:modified>
  <cp:revision>18</cp:revision>
  <dc:subject/>
  <dc:title>No Slide Title</dc:title>
</cp:coreProperties>
</file>