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f My Hear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 Butler (Ps. 25:4-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Mercy / Vineyard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your holy way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 can walk in your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your holy way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ly devoted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 so I can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erful things that you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 up more and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ly devoted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close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ry of my he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you all of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38:21Z</dcterms:modified>
  <cp:revision>18</cp:revision>
  <dc:subject/>
  <dc:title>I Am the God That Healeth Thee</dc:title>
</cp:coreProperties>
</file>