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ne Great Peac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hread I wea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ep I d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one I carv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all I bou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nail I driv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pearl I st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lag I wav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note I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pot I shap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ire I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ence I leap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one I kn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eed I nurs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rift I m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 I rais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earth I t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eck I writ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arch I jo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faith I stat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ruth I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small par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ne small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ne heart's be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ne great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17:07:01Z</dcterms:modified>
  <cp:revision>42</cp:revision>
  <dc:subject/>
  <dc:title>I Am the God That Healeth Thee</dc:title>
</cp:coreProperties>
</file>