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a Clean Heart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garet P. Dourou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0 Margaret P. Dourou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a clean heart s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serve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fix my heart so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be used by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'm not worthy of all those bless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a clean heart, and I'll follow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1:55:55Z</dcterms:modified>
  <cp:revision>95</cp:revision>
  <dc:subject/>
  <dc:title>A Shield About Me</dc:title>
</cp:coreProperties>
</file>