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Earth Praye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:  Do not neglec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, protect me -- I need your tru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reath is your breath, my death is your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hes to ashes, dust into du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nurture:  Do not destroy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enjoy me, savor my fru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od is your good, my food is your f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 and flower, branches and roo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lodging:  Do not abuse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ly use me, soothing my scar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lth is your health, my wealth is your weal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with promise, set among st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ur maker:  Do not deny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llenge, defy God, threaten this pl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to cherish, -- care, or we peris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your mother, -- tears on my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12T17:20:47Z</dcterms:modified>
  <cp:revision>21</cp:revision>
  <dc:subject/>
  <dc:title>A Shield About Me</dc:title>
</cp:coreProperties>
</file>