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Answer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man G. Stuempfle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answered when you called, "Come, follow, follow me!"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at once have left behind both work and famil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the old, familiar round have held me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cla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pt the spark within my heart from bursting into fl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followed where you led through ancient Galil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roads unknown, b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s untried, beyond securit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I soon have hurried back where home and comfort dr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ruth you taught would not disturb the ordered world I knew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have matched my step with yours when crowds cried, "Crucif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 a rocky hill I sa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ross against the sk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ould I too have slipped away and left you there al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ying king with crown of thorns upon a terrible thr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I cannot search my heart through all its tangled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can I with a certai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d my steadfastness ap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nly pray that when you call, "Come, follow, follow m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give me strength beyond my own to follow faithfu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22:55Z</dcterms:modified>
  <cp:revision>102</cp:revision>
  <dc:subject/>
  <dc:title>A Shield About Me</dc:title>
</cp:coreProperties>
</file>