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9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Us O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2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arol Cymbala (John 17:22-2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Word Music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us one, Lord, mak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o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make us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your love flow so the world will know we a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20T03:38:51Z</dcterms:modified>
  <cp:revision>32</cp:revision>
  <dc:subject/>
  <dc:title>In His Time</dc:title>
</cp:coreProperties>
</file>