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Lovely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ow Love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rlo Duba (Ps. 8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6 Hope Publ.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lovely, Lord, how lovely is your abiding pl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ul is longing, fainting, to feast upon your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arrow finds a shelter, a place to build her nes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 your temple calls us within its walls to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blest courts to worship, O God, a single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better than a thous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I from you should st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d rather keep the entrance and claim you as my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revel in the riches the ways of sin aff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un and shield for ever are you, O God most high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hower us with blessings no good will you den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ints, your grace receiving, from strength to strength shall g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ir life shall rivers of blessings overf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4T01:00:40Z</dcterms:modified>
  <cp:revision>12</cp:revision>
  <dc:subject/>
  <dc:title>Give Thanks</dc:title>
</cp:coreProperties>
</file>