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ean &amp; Jim Strathde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Desert Flower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, you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your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, you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your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, you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your m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, you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that you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7T05:52:10Z</dcterms:modified>
  <cp:revision>21</cp:revision>
  <dc:subject/>
  <dc:title>I Am the God That Healeth Thee</dc:title>
</cp:coreProperties>
</file>