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eedom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eedom!  O freedom!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eedom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mo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mo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moan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ep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ing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hou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hou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shout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praying ov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fore I'd be a sl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be buried in my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home to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19:58Z</dcterms:modified>
  <cp:revision>51</cp:revision>
  <dc:subject/>
  <dc:title>I Am the God That Healeth Thee</dc:title>
</cp:coreProperties>
</file>