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ttled Worl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Spar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ttled world, where people l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ind their way to feel secu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lives of turbulenc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us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, to seek your peace, our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to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ttled world, where money rul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eedy systems call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u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rength to keep our values stra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, with trust in you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to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ttled world, where angry po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grinding need at affluence st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ears and thirst for truth and r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, with longing in our hear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to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ttled world, unsettled chur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structures creak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ctrines swir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faith, and in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of Chri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trive, in true communi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to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3:56:54Z</dcterms:modified>
  <cp:revision>38</cp:revision>
  <dc:subject/>
  <dc:title>I Am the God That Healeth Thee</dc:title>
</cp:coreProperties>
</file>