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Am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Bell (Ps. 4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WGRG The Iona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that I a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 and know that I am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53:58Z</dcterms:modified>
  <cp:revision>18</cp:revision>
  <dc:subject/>
  <dc:title>A Shield About Me</dc:title>
</cp:coreProperties>
</file>