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50548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im Divine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25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harles Wesley (Heb. 10:12-2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not go up to hea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ring the long-sought Savior do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to all alread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ost e’en now thy banquet crow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very faithful soul app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 thy real presence 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im Divine, thy grace we clai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us thy precious death we sh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offered up, a spotless lamb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great temple here be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for all our kind at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andest now befor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standest in the holiest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now for guilty sinners sl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ood of sprinkling speaks, and pray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evalent for helpless on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ood is still our ransom f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preads salvation all a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moke of thy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onement 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kened the sun and rent the vei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the new way to heaven appe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ed the great Invisibl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pleased in thee our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ooked d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lled his rebels to a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till respects thy sacrif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savor sweet doth always plea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ffering smokes through earth and sk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ffusing life, and joy, and peac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se thy lower courts it com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5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lls them with divine perfu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17:42:14Z</dcterms:created>
  <dc:creator>Gary Wintergerst</dc:creator>
  <dc:description/>
  <dc:language>en-US</dc:language>
  <cp:lastModifiedBy>Gary Wintergerst</cp:lastModifiedBy>
  <dcterms:modified xsi:type="dcterms:W3CDTF">2001-03-30T04:22:17Z</dcterms:modified>
  <cp:revision>25</cp:revision>
  <dc:subject/>
  <dc:title>Walk With Me</dc:title>
</cp:coreProperties>
</file>