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7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ratitude Now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ccept, O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Gracias, Señor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4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afael Montalv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3 Rafael Montalv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do te pertenece a ti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 vida y todo mi s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gratitud te damo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l lo que tú nos da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ias, Señor, por lo que me da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ias por bendecir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ratitude now accept, O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ender care that you provid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ias por tu fidelida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por tu provis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your abundant faithfuln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dless is your suppl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doy de lo que tú me da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gozo en me coraz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all your bounty I give to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the blessings you imp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ibe hoy mi ofrend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la entrego a ti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eive this offering I br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eive my joyful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amo, Dios, doy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a ti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ú eres digno de lo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bring to you all my love and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glorify and bless your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adoro con mi vid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con lo que me da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e adore you, Holy 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every breath I tak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do te pertenece a ti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 vida y todo mi s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at is living belongs to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at I am in your hands kep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gratitud te damo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l lo que tú nos da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abundance of your ha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fts from the heart accep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ratitude now accept, O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ender care that you provid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your abundant faithfuln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dless is your suppl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all your bounty I give to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the blessings you imp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eive this offering I br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eive my joyful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bring to you all my love and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glorify and bless your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e adore you, Holy 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every breath I tak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at is living belongs to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at I am in your hands kep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abundance of your ha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fts from the heart accep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ias, Señor, por lo que me da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ias por bendecir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ias por tu fidelida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por tu provis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doy de lo que tú me da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gozo en me coraz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ibe hoy mi ofrend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la entrego a ti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amo, Dios, doy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a ti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ú eres digno de lo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adoro con mi vid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con lo que me da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19:53:44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2-04T01:46:05Z</dcterms:modified>
  <cp:revision>17</cp:revision>
  <dc:subject/>
  <dc:title>Give Thanks</dc:title>
</cp:coreProperties>
</file>