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isten to Your Children Pray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en Medem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3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isten to your children pray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send your Spirit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pl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isten to your children pray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us love, send us power, send u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2T02:12:15Z</dcterms:modified>
  <cp:revision>50</cp:revision>
  <dc:subject/>
  <dc:title>I Am the God That Healeth Thee</dc:title>
</cp:coreProperties>
</file>