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Channel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Your Pe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7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Prayer of St. Franc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channel of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 is hatred, let me bring your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 is injury, your pardon,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re there's doubt true faith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channel of you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's despair 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, let me bring hop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re is darkness, only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re there's sadness, ever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master, grant that I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never seek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uch to be consoled as to conso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understood as to underst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loved as to love with all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channel of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in pardoning that w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pardon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iving of ourselves that we rece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dying that we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eternal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8T05:20:08Z</dcterms:modified>
  <cp:revision>24</cp:revision>
  <dc:subject/>
  <dc:title>I Am the God That Healeth Thee</dc:title>
</cp:coreProperties>
</file>