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Singing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5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hirley Erena Murra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6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singing, in the silence, in the hands expectant, op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blessing, in the breaking, in the presence at this tabl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Christ, Jesus Christ, be the wine of grac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Christ, Jesus Christ, be the bread of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question, in the answer, in the moment of acceptan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heart’s cry, in the healing, in the circle of your peopl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Christ, Jesus Christ, be the wine of grac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Christ, Jesus Christ, be the bread of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30T03:40:40Z</dcterms:modified>
  <cp:revision>21</cp:revision>
  <dc:subject/>
  <dc:title>Walk With Me</dc:title>
</cp:coreProperties>
</file>