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re Like You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67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Scott Wesley Brow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©1997 Maranatha Praise, Inc., admin. by The Copyright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re like you, Jesus, more like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ll my heart with your desire to make me more like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re like you, Jesus, more like you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uch my lips with holy fire and make me more like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you are my merc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you are my gr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my deepest sins have forever been eras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raw me in your presen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d me in your way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long to bring you glor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righteousness an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re like you, Jesus, more like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ll my heart with your desire to make me more like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re like you, Jesus, more like you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uch my lips with holy fire and make me more like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uch my lips with holy fire and make me more like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9T20:00:46Z</dcterms:created>
  <dc:creator>Gary Wintergerst</dc:creator>
  <dc:description/>
  <dc:language>en-US</dc:language>
  <cp:lastModifiedBy>Gary Wintergerst</cp:lastModifiedBy>
  <cp:lastPrinted>1995-08-30T07:48:42Z</cp:lastPrinted>
  <dcterms:modified xsi:type="dcterms:W3CDTF">2003-06-28T16:19:13Z</dcterms:modified>
  <cp:revision>21</cp:revision>
  <dc:subject/>
  <dc:title>I Am the God That Healeth Thee</dc:title>
</cp:coreProperties>
</file>