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turn to you deep with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he past to the d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to you with tears and fast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ready to for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arrow will find a h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you, O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appy, we who dwell with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in your hou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we sing to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goodness, O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to all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faithfulness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lov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touching you, we emb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knowing you, we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seeing you, we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our shephe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thing that we n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reen pastures we will find our r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waters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7T04:05:54Z</dcterms:modified>
  <cp:revision>9</cp:revision>
  <dc:subject/>
  <dc:title>In His Time</dc:title>
</cp:coreProperties>
</file>