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 with Us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9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Herbert F. Brokering (Luke 24:13-3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0 Concordia Publishing Hou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 with us, till night has com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praise to you this day be su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our bread, open our eyes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be our grea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pr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with us, our spirits sigh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when our wear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s c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el again our loss, 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in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ake us to your s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with us, the road will ben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all our weeping, wailing 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pe our tears, forgive our fears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lift the heavy cro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lk with us, till we beho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joyful life you will unfol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our eyes to see the priz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ake us to the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 with us, till day is don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tears nor dark shall dim the su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eer the heart, your grace impart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bring eternal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3T05:39:41Z</dcterms:modified>
  <cp:revision>56</cp:revision>
  <dc:subject/>
  <dc:title>I Am the God That Healeth Thee</dc:title>
</cp:coreProperties>
</file>