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Praises to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erry MacAlmon (Ps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praises to y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praises to your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name is great and greatly to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ive glory to y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glory to your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name is great and greatly to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37:44Z</dcterms:modified>
  <cp:revision>7</cp:revision>
  <dc:subject/>
  <dc:title>Give Thanks</dc:title>
</cp:coreProperties>
</file>