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0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Gary Alan Smith (Isa 60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Gamut Music Produc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rise, shine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or your light has com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light has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nd the glory of the Lor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lory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s risen upon you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risen upon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03T00:13:31Z</dcterms:modified>
  <cp:revision>15</cp:revision>
  <dc:subject/>
  <dc:title>A Shield About Me</dc:title>
</cp:coreProperties>
</file>