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Me a Servant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7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Kelly Willard (John 13:14-1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2 Willing Heart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me a servant, humble and meek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et me lift up those who are wea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y the prayer of my heart always b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me a servan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me a servan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me a servan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09T05:34:54Z</dcterms:modified>
  <cp:revision>29</cp:revision>
  <dc:subject/>
  <dc:title>I Am the God That Healeth Thee</dc:title>
</cp:coreProperties>
</file>