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ain Killed Abel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ain killed Abel in a f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acob stole another's 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oseph's brothers gave him cha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pt and mourned  their fall from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family, small or grea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alousy twists lo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a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ivals turn to enem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eps at our hostilit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in church and world to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feelings still co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pl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rothers, sisters stand ap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eps for ever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s, join in God's lame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ep now and mourn, be penite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y to God: Forgi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ore us as before the 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2:31:29Z</dcterms:modified>
  <cp:revision>98</cp:revision>
  <dc:subject/>
  <dc:title>A Shield About Me</dc:title>
</cp:coreProperties>
</file>