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d and Lone th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's V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rl P. Daw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d and lone the prophet's v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choes through the desert sti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 us to make a ch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ding us to do God's will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urn from sin and be baptiz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 your heart and mind and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tting all the sin you priz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ield your life to God's contro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Bear the fruit repentance sow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s of justice, truth,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no other claim than th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your heart on things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the Lord will come in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ning clean the threshing floo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ill flames the chaff devou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at alone shall fill God's stor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uch preaching stark and bo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hn proclaimed salvation n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timeless warnings ho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s of hope to all who h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e dare to journey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d by faith through ways untr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come at last like Joh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hold the Lamb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11:54Z</dcterms:modified>
  <cp:revision>47</cp:revision>
  <dc:subject/>
  <dc:title>A Shield About Me</dc:title>
</cp:coreProperties>
</file>