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ng Is Lov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know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8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amuel Crossm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my plain belief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ong my heart outpours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was pain nor grief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was love like you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Friend, in whose sweet pra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ll my days could gladly spen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ll my days could gladly sp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ng is love unkn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avior's love to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o the loveless sh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ey might lovely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ho am I, that for my sa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 should take frail flesh and di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 should take frail flesh and di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left the richest thr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lvation to best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Christ as flesh and b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refused to k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, O my Friend, my Friend inde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at my need did life exp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at my need did life exp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imes they threw down palm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weetest praises sa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s and glad psalm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streets and markets ra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"Crucify!" is all their brea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lood and death they thirst and cr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lood and death they thirst and c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has my Sovereign don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makes this rage and spit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gave new strength to r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ored the gift of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injuries! Yet they at the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mselves displease, and 'gainst Christ ris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mselves displease, and 'gainst Christ r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16:16:38Z</dcterms:modified>
  <cp:revision>40</cp:revision>
  <dc:subject/>
  <dc:title>A Shield About Me</dc:title>
</cp:coreProperties>
</file>