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Clou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res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 (Exod. 13:21-2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cloud of Presence, the exodus is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ilderness and dese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ribe shall make its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lavery left behind us, new hopes within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the lan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  where milk and honey 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fiery Pillar, we follow yet with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shall come rejoicing though joy be born of te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ot lost, though wandering, for by your light we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are still God's people. The journey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Go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dom, and guide us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us trust the promise through struggle and de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our sons and daughters may journe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at l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ustice dwells with mercy, and love is law's dem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3T05:21:55Z</dcterms:modified>
  <cp:revision>27</cp:revision>
  <dc:subject/>
  <dc:title>In His Time</dc:title>
</cp:coreProperties>
</file>