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Song of Isai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ok of Common Prayer (Isa. 12:2-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7 The Church Pension F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you shall draw water with rejoic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prings of salvation.  And on that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you shall s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Lor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upon hi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his deeds known among the peopl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they remembe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is name is exal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praise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has done great things, and this is known in all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aloud inhabitants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out your your joy, for the great on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dst of you is the Holy One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, it is God who saves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him and not be afrai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is my stronghold and my sure defen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be my Savi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4-05T01:38:52Z</dcterms:modified>
  <cp:revision>12</cp:revision>
  <dc:subject/>
  <dc:title>As the Deer</dc:title>
</cp:coreProperties>
</file>