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y Stand So Far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way, My God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8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uth Duck (Ps. 1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2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y stand so far away, my God?  Why hide in times of need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roud, unbridled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ase the poor,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rse you in their gre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y do you hide when, full of lies, they murder and betray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wait to pounce upon the weak as lions stalk their pre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eak are crushed and fall to earth; the wicked strut and pre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y in these cruel, chaotic times cannot your fac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seen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ges past you heard the voice of those the proud oppr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member those who  suffer now, who cry in deep distr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ise, O God, and lift your hand; bring justice to the po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help us stop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ow of blood!  Let terror reign no mo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0T03:28:43Z</dcterms:modified>
  <cp:revision>35</cp:revision>
  <dc:subject/>
  <dc:title>I Am the God That Healeth Thee</dc:title>
</cp:coreProperties>
</file>