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res Choru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elly Willa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8 Maranatha Praise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st all my cares upon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ay all of my burden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wn at your f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ny time that I don't know what to d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ast all my car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8T03:20:40Z</dcterms:modified>
  <cp:revision>18</cp:revision>
  <dc:subject/>
  <dc:title>In His Time</dc:title>
</cp:coreProperties>
</file>