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of the Wor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0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ichael Ca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2 Mole End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Light of the World, O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 make your servant s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how could there be any darkness in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are the Light of the Worl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Light of the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Bread of Life, O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to set us f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how could there be any hunger in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are the Bread of Lif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Bread of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've overcome the world, O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n us vict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why could I fear when trouble is ne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've overcome the worl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've overcome the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2:48:26Z</dcterms:created>
  <dc:creator>Gary Wintergerst</dc:creator>
  <dc:description/>
  <dc:language>en-US</dc:language>
  <cp:lastModifiedBy>Gary Wintergerst</cp:lastModifiedBy>
  <dcterms:modified xsi:type="dcterms:W3CDTF">2001-03-16T15:38:16Z</dcterms:modified>
  <cp:revision>6</cp:revision>
  <dc:subject/>
  <dc:title>In His Time</dc:title>
</cp:coreProperties>
</file>