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Precious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 Silv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6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Lynn DeShaz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0 Integrity's Hosanna!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are more precious than sil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are more costly than go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you are more beautiful than diamond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thing I desire compares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8T05:47:47Z</dcterms:modified>
  <cp:revision>24</cp:revision>
  <dc:subject/>
  <dc:title>A Shield About Me</dc:title>
</cp:coreProperties>
</file>