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ful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n Struth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ords perm. Oxford Univ.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 hopefulness, Lord of all j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trust, ever childlike, no cares could destro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re at our waking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us we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bliss in our heart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break of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 eagerness, Lord of all fai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strong hands were skilled at the plane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th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re at our labors, and give us, we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trength in our heart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noon of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 kindliness, Lord of all g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ands swift to welcome, your arms to embr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re at our homing, and give us, we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 in our heart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eve of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 gentleness, Lord of all cal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voice 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tentment, whose presence is balm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re at our sleeping, and give us, we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peace in our hearts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end of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4-04T04:47:58Z</dcterms:modified>
  <cp:revision>54</cp:revision>
  <dc:subject/>
  <dc:title>I Am the God That Healeth Thee</dc:title>
</cp:coreProperties>
</file>