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Ubi Carita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9th Cent. Latin (1 Cor. 13:2-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Jesus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gathered us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love, O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foremost in our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love one an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 has lov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e one in love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one bread of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God in Jesus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eternal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dfast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God in Jesus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never have an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in charity; God will dwell 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bicaritas et am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bicaritas Deus ibi 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6-09T14:36:50Z</dcterms:modified>
  <cp:revision>35</cp:revision>
  <dc:subject/>
  <dc:title>I Am the God That Healeth Thee</dc:title>
</cp:coreProperties>
</file>