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¡Miren Qué Bueno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Pablo So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9 Concionero Abier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hermanos están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como aceite bueno derramado sobre Aar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precious oil that runs from Aaron's head and b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as hermanas están junt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parece al rocío sobre los montes de S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Hebron's dew that falls upon the hills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reunimos todos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precious oil that runs from Aaron's head and b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el Señor ahí manda vida eterna y bendi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promise of the Lord eternally to bl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Hebron's dew that falls upon the hills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at how good it is for us to be here all toge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promise of the Lord eternally to bl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ok and wonder, how good it 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hermanos están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como aceite bueno derramado sobre Aar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as hermanas están junt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parece al rocío sobre los montes de S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Miren qué bueno, qué bueno 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en qué bueno 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los reunimos todos junt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el Señor ahí manda vida eterna y bendi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22:38:37Z</dcterms:modified>
  <cp:revision>24</cp:revision>
  <dc:subject/>
  <dc:title>In His Time</dc:title>
</cp:coreProperties>
</file>