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Ris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1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Bel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8 WGRG The Iona Commun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dmin. GIA Pub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Desca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risen and forever lives to challenge and to chang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se lives are messed or mangled, all who find religion strang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…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presen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…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ali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idence of transformation in which God is known and se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risen while earth slumbers, Christ has risen where hope di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he said and as he promised, as we doubted and den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moon embrace the blessing; let the sun sustain the chee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world confirm the rumor:  Christ is risen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he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risen for the people whom he died to love and sa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risen for the women bringing flower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race his gra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risen for disciples huddled in an upstairs ro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hose word inspired creation can't be silenced by the tomb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risen to companion former friends who fear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sing loss and limitation where their faith had once burned br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bemoan what is no longer, they expect no hopeful sig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Christ ends their conversation, breaking bread and sharing w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risen and forever lives to challenge and to chang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se lives are messed or mangled, all who find religion strang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isen, Christ is present making us what he has be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idence of transformation in which God is known and se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Steven W</cp:lastModifiedBy>
  <cp:lastPrinted>1995-07-02T14:48:50Z</cp:lastPrinted>
  <dcterms:modified xsi:type="dcterms:W3CDTF">2002-06-18T23:29:21Z</dcterms:modified>
  <cp:revision>76</cp:revision>
  <dc:subject/>
  <dc:title>A Shield About Me</dc:title>
</cp:coreProperties>
</file>