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Lord I'll Be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 Thankfu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95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Jacques Berthie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1 Les Presses de Taizé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Lord I'll be ever thankfu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Lord I will rejoic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ok to God, do not be afrai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t up your voices, the Lord is nea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t up your voices, the Lord is nea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9T20:00:46Z</dcterms:created>
  <dc:creator>Gary Wintergerst</dc:creator>
  <dc:description/>
  <dc:language>en-US</dc:language>
  <cp:lastModifiedBy>Gary Wintergerst</cp:lastModifiedBy>
  <cp:lastPrinted>1995-08-30T07:48:42Z</cp:lastPrinted>
  <dcterms:modified xsi:type="dcterms:W3CDTF">2001-03-12T02:23:10Z</dcterms:modified>
  <cp:revision>52</cp:revision>
  <dc:subject/>
  <dc:title>I Am the God That Healeth Thee</dc:title>
</cp:coreProperties>
</file>