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Baptiz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Ylvisaker (Rom. 6:3-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John Ylvisa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baptized in Christ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baptized in his deat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 Christ was raised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ight live a brand new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we have been uni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dreadful death like hi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all be reunited, fo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ater and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king of th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aiting arms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risen from the d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made a new begin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shes of our pa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sing and the winning we hold f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the Fa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Christ the 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Holy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three and ever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t was in the begin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now resounds a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song that has no ending. 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5:14:19Z</dcterms:modified>
  <cp:revision>17</cp:revision>
  <dc:subject/>
  <dc:title>Walk With Me</dc:title>
</cp:coreProperties>
</file>