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ther Us I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3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2 GIA Publications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Marty Haugen (Matt. 5:13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in this place new light is stream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is the darkness vanished aw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in this space our fears and our dreaming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ught here to you in the light of this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ther us in the lost and forsak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ther us in the blind and the la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ll to us now, and we shall awak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hall arise at the sound of our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the young our lives are a myster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the old who yearn for your f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ave been sung throughout all of hist'r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lled to be light to the whole human 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ther us in the rich and the haught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ther us in the proud and the stro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us a heart so meek and so lowl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us the courage to enter the s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we will take the wine and the wat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we will take the bread of new bir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you shall call your sons and your daughter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ll us anew to be salt for the ea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us to drink the wine of compass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us to eat the bread that is you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urish us well, and teach us to fashio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es that are holy and hearts that are tru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in the dark of buildings confin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in some heaven, light years away, bu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in this place the new light is shin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is the Kingdom, now is the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ther us in and hold us for e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ther us in and make us your ow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ther us in--all peoples toge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re of love in our flesh and our b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6-12T20:36:15Z</dcterms:modified>
  <cp:revision>10</cp:revision>
  <dc:subject/>
  <dc:title>A Shield About Me</dc:title>
</cp:coreProperties>
</file>