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inn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n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broth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roth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ist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Yes, I do love my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ster, do you love Jesu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I’ve just come from the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ve just come from 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’ve just come fr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’s so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4:55:49Z</dcterms:modified>
  <cp:revision>16</cp:revision>
  <dc:subject/>
  <dc:title>Walk With Me</dc:title>
</cp:coreProperties>
</file>