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5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, Jesus lifted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glory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d me bound, Jesus lifted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d me bound,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d me bound, 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glory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was in trouble, Jesus lifted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was in troubl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was in troubl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glory halleluja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fted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15:55:56Z</dcterms:modified>
  <cp:revision>8</cp:revision>
  <dc:subject/>
  <dc:title>No Slide Title</dc:title>
</cp:coreProperties>
</file>