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s There to H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Borning C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Ylvisa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5 John Ylvisa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was there to hear your borning c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there when you are 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joiced the day you were baptiz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your life unf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s there when you were but a chi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faith to suit you we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blaze of light you wandered off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ind where demons dw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hen you heard the wonder of the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s there to cheer you o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ere raised to praise the living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you now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find someone to share your 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join your hearts as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there to make your verses rhy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usk till rising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n the middle ages of your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oo old, no longer you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there to guide you through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plete what I've beg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evening gently closes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shut your weary ey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there as I have always be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ust one more surpr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was there to hear your borning c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there when you are o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joiced the day you were baptiz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your life unfo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6T02:32:27Z</dcterms:modified>
  <cp:revision>14</cp:revision>
  <dc:subject/>
  <dc:title>A Shield About Me</dc:title>
</cp:coreProperties>
</file>