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Does the Lor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quire of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im Strathdee (Mic. 6: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6 Desert Flower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774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does the Lord require of you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4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ice, kind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4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humbly with you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4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k justice and love kind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4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alk humbly with you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9T05:22:33Z</dcterms:modified>
  <cp:revision>27</cp:revision>
  <dc:subject/>
  <dc:title>I Am the God That Healeth Thee</dc:title>
</cp:coreProperties>
</file>