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Good Work in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n Mohr (Phil. 1: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Jonathan Mark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started the wor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began a good work in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started the work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be faithful to complete i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7T05:31:04Z</dcterms:modified>
  <cp:revision>17</cp:revision>
  <dc:subject/>
  <dc:title>I Am the God That Healeth Thee</dc:title>
</cp:coreProperties>
</file>