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O Holy Spirit, Com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Wa Wa Wa Emimimo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2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rans. I-to Lo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5 Genl. Bd. Global Ministr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O Holy Spirit, co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Holy Spirit, come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lmighty Spirit, co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almighty Spirit come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come,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79f"/>
                </a:solidFill>
                <a:latin typeface="Arial"/>
              </a:rPr>
              <a:t>O Spirit,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 wa wa E-mi-mi-m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E-mi-o-lo-ye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 wa wa A-lag-ba-r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A-lag-ba-ra-me-ta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-o wa-o wa-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E-mi-mi-mo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22T04:40:21Z</dcterms:modified>
  <cp:revision>86</cp:revision>
  <dc:subject/>
  <dc:title>A Shield About Me</dc:title>
</cp:coreProperties>
</file>