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Be Praise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worship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ur voices filled with prais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worship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of love we 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2T05:38:06Z</dcterms:modified>
  <cp:revision>36</cp:revision>
  <dc:subject/>
  <dc:title>A Shield About Me</dc:title>
</cp:coreProperties>
</file>