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Some Thing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Not K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nneth Mor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44 Martin and Mor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ove for me is like pure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I can feel God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some things I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not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some places I cannot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am sure of this one th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 is real for I c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 God deep with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God is real, real in my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God has washed  and made me who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ove for me is like pure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I can feel God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folks may doubt, some folks may sc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an desert and leave me al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s for me I'll take God's 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is real and I can feel God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God is real, real in my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God has washed  and made me who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ove for me is like pure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I can feel God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not tell just how you fe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took your sins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ince that day, yes since that hou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s been real for I can feel God's holy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God is real, real in my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 God is real for God has washed  and made me who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01:19:57Z</dcterms:modified>
  <cp:revision>11</cp:revision>
  <dc:subject/>
  <dc:title>No Slide Title</dc:title>
</cp:coreProperties>
</file>