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in Christ Jesus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Somos Uno en Cristo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2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79f"/>
                </a:solidFill>
                <a:latin typeface="Arial"/>
              </a:rPr>
              <a:t>Anon.; Eng. Trans. Alice Parker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79f"/>
                </a:solidFill>
                <a:latin typeface="Arial"/>
              </a:rPr>
              <a:t>Trans. ©1996 Abingdon Pres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solo Dios, un solo Seño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 sola fe, un sol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re one God, one mighty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abiding faith, one binding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solo bautismo, un solo Espírit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ese es el Consolad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ingle baptism, one Holy Comfort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ly Spirit, uniting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in Christ Jesus, all one bod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ne spirit, all toge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in Christ Jesus, all one bod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ne spirit, all toge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re one God, one mighty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abiding faith, one binding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ingle baptism, one Holy Comfort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ly Spirit, uniting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uno en Cristo, somos un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uno, uno sól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uno en Cristo, somos un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uno, uno sól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solo Dios, un solo Seño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 sola fe, un sol amo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solo bautismo, un solo Espírit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ese es el Consolad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uno en Cristo, somos un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uno, uno sól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in Christ Jesus, all one bod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ne spirit, all toge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uno en Cristo, somos un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uno, uno sól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in Christ Jesus, all one bod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ne spirit, all toge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2T05:15:55Z</dcterms:modified>
  <cp:revision>39</cp:revision>
  <dc:subject/>
  <dc:title>In His Time</dc:title>
</cp:coreProperties>
</file>