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munion Setting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a - Preface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5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United Methodist Hym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9 The United Meth. Publ. Hous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d - Great Amen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 in the highe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 in the highe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 in the highe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6670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The Lord be with you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so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Lift up your hearts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lift them up to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Let us give thanks to the Lord our God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right to give our thanks and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b - Sanctus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power and m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and earth are full of your glo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 in the highe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 in the Highe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 in the Highe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is the one who com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name of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 in the highe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 in the highe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 in the highe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c - Memorial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cclamation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has di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ris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will come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 in the highe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 in the highe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 in the highe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30T03:56:28Z</dcterms:modified>
  <cp:revision>23</cp:revision>
  <dc:subject/>
  <dc:title>Walk With Me</dc:title>
</cp:coreProperties>
</file>