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Father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to Sa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illiam Whi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Father, strong to s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arm has bound the restless w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id the mighty ocean deep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own appointed limits keep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ar us when we cry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in peril o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avior, whose almighty w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nd and waves submissive hea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alked upon the foaming deep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lm amid its rage did sleep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ar us when we cry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in peril o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Spirit, who di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the chaos wild and ru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d its angry tumult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ave, for fierce confusion, pe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ar us when we cry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in peril o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rinity of love and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ravelers guard in danger's hou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rock and tempest, fire and fo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tect them where-so-e'er they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evermore shall rise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 praise from air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nd and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1T04:57:36Z</dcterms:modified>
  <cp:revision>48</cp:revision>
  <dc:subject/>
  <dc:title>I Am the God That Healeth Thee</dc:title>
</cp:coreProperties>
</file>