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Nam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6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oy Hicks, Jr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6 Latter Rain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name of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name of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my Roc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my Fortress, he's my deliverer, in him I will tru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name of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8T05:50:48Z</dcterms:modified>
  <cp:revision>25</cp:revision>
  <dc:subject/>
  <dc:title>A Shield About Me</dc:title>
</cp:coreProperties>
</file>