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Rejoice in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Jubilate Servite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1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cque Berthier (Ps. 10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0 Les Presses de Taiz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rejoice in Go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him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e your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e your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ly serve your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, halleluja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ly serve your Go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, halleluja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ly serve your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bilate De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mnisterr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ite Domin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aetiti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in laetit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in laetit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bilate Deo omnisterr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ite Domino in laetiti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rejoice in God;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him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e your God, serve your God, gladly serve your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43828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in laetit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in laetit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, hallelujah, gladly serve your Go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, hallelujah, gladly serve your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4-05T00:43:47Z</dcterms:modified>
  <cp:revision>23</cp:revision>
  <dc:subject/>
  <dc:title>A Shield About Me</dc:title>
</cp:coreProperties>
</file>