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 We Serv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niel Charles Dam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8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 we serv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ited by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viting God's world to the glorious fe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rk and we pray through sorrow and j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tending your love to the last and the le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k to beco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of hop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mp for the heart and a light for the f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earn, year by year,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love shine throug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we see Christ in each person we m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lcome the scarred, the wealthy, the po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usy, the lonely,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need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offer a home to those who will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ands quick to help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ready to d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, by grace, we witness and wor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ing Jesus, in whom we grow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 we serve in Spirit and tru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ing love is the strength of our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9T05:30:40Z</dcterms:modified>
  <cp:revision>28</cp:revision>
  <dc:subject/>
  <dc:title>I Am the God That Healeth Thee</dc:title>
</cp:coreProperties>
</file>