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way with M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0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Nelson Keithah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7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way with me to a quiet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part from the world wi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s frantic p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ay, reflect, and seek God'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way with me. Come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pray with me o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gentle se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op of a hill in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lil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ardens like Gethsema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way with me. Come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day with thoughts of the countless way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God's steadfast love blesses all our da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oin with me in silent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way with me. Come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say, in words whispered from your sou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eelings and actions you can't contro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spirit needs to be made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way with me. Come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way with me to a quiet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's loving arms waiting to embr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ose who come in hope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way with me. Come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6T15:24:45Z</dcterms:modified>
  <cp:revision>58</cp:revision>
  <dc:subject/>
  <dc:title>I Am the God That Healeth Thee</dc:title>
</cp:coreProperties>
</file>