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ndt Hanson &amp; Paul Muraka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Ps. 47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1 Changing Church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in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in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re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ise our God with s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re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ise our God with so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in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new song in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p your hand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1-02-03T20:30:05Z</dcterms:modified>
  <cp:revision>9</cp:revision>
  <dc:subject/>
  <dc:title>As the Deer</dc:title>
</cp:coreProperties>
</file>