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t Had Not B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Margaret P. Dourou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t had not been for the Lord on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where would I be, where would I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kept my enemies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t the sun shine through a cloud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cked me in the cradle of his ar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know I had been battered and scorn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f it had not been for the Lord on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where would I be, where would I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left me all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ave the peace and joy I'd n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nswered when I knelt to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vict'ry the Lord brought me his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f it had not been for the Lord on my si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where would I be, where would I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7T05:31:50Z</dcterms:modified>
  <cp:revision>16</cp:revision>
  <dc:subject/>
  <dc:title>A Shield About Me</dc:title>
</cp:coreProperties>
</file>