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Lift You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 on H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k Foun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lift your name on hi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 love to sing your prais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 you're in my l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 you came to save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me from heaven to earth to show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earth to the cro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ebt to p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ross to the gra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grave to the sk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 lift your name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13:42Z</dcterms:modified>
  <cp:revision>45</cp:revision>
  <dc:subject/>
  <dc:title>A Shield About Me</dc:title>
</cp:coreProperties>
</file>