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Ron Klusmeier (Ps. 1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2 Ron Klusme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all of you, God's servan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our God now and 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sing of 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Lord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name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ne like our God in the heavens or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ifts the poor from the dust, seating them with the mi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toops to raise the weak and l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Lord be prai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name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36:33Z</dcterms:modified>
  <cp:revision>10</cp:revision>
  <dc:subject/>
  <dc:title>As the Deer</dc:title>
</cp:coreProperties>
</file>