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eep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4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hirley Erena Murra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6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eep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love withhel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strength misus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children's innocence abus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ill we change the way we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eep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leed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anger's fis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rust betray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women battered and afrai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ill we change the way we w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leed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cri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hungry mouth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running sor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creatures dying without cau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ill we change the way we ca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cri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ait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stones to mel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peace to se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hearts to hold each other's ne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ill we change the way we understand Chri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ait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4T22:23:54Z</dcterms:modified>
  <cp:revision>11</cp:revision>
  <dc:subject/>
  <dc:title>A Shield About Me</dc:title>
</cp:coreProperties>
</file>