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eve Garnaas-Hol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Steve Garnaas-Hol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 in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ladly hear your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fe in our hands that s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wer of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your grace we r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shining in our ey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d in y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Come, Spirit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bright W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 that bids life beg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as you always d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e us a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he breath to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ed on soaring w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d in y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Come, Spirit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bright D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your peace and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ing upon your wi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living th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en we live your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ptives will find relea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d in y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Come, Spirit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bright h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n in far-off la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old all the human 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ne warm emb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atter where we 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old us together s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d in y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Come, Spirit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bright Fl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in your holy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wer to heal, to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ever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not fail or f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know defeat at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d in y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on your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Come, Spirit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05:36:44Z</dcterms:modified>
  <cp:revision>77</cp:revision>
  <dc:subject/>
  <dc:title>A Shield About Me</dc:title>
</cp:coreProperties>
</file>