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 for Jesu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4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. O. Chisol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own no other master, my heart shall be thy thr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I give, henceforth to live, O Christ, for thee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 for Jesus through earth's little whil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dearest treasure, the light of his smil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ing the lost ones he died to redee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ing the weary to find rest in h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Lord and Savior, I give myself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u, in thy atonement, didst give thyself fo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own no other master, my heart shall be thy thr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I give, henceforth to live, O Christ, for thee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 for Jesus a life tha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tru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iving to please him in all that I d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ielding allegiance, glad hearted and fr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pathway of blessing fo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Lord and Savior, I give myself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u, in thy atonement, didst give thyself fo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own no other master, my heart shall be thy thr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I give, henceforth to live, O Christ, for thee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 for Jesus who died in my pl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ing on Calvary my sin and disg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love constrains me to answer his c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llow his leading and give him my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Lord and Savior, I give myself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u, in thy atonement, didst give thyself fo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own no other master, my heart shall be thy thr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I give, henceforth to live, O Christ, for thee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 for Jesus whereve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ing each duty in his holy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ing to suffer afflictio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lo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eming each trial a par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my cr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Lord and Savior, I give myself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u, in thy atonement, didst give thyself fo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6-09T14:33:34Z</dcterms:modified>
  <cp:revision>17</cp:revision>
  <dc:subject/>
  <dc:title>No Slide Title</dc:title>
</cp:coreProperties>
</file>