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God Restore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ommon Li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uth Du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Damean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God restored our common l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ope, our liber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first it seemed a passing drea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aking fantas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hock of joy swept over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 had wept so lo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eeds we water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with tea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ang up into a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nt forth weeping, sowing see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ard, unyielding soi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laughing hearts we carry h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ruit of all our toi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ise the One wh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ve the grow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voices full and st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eeds we water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with tea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ang up into a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liberating God, we pr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who are oppres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ose who long for what is r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justice now be bl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y for those who mourn this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who suffer wro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seeds they wat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ith tea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ing up into a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0T03:43:47Z</dcterms:modified>
  <cp:revision>37</cp:revision>
  <dc:subject/>
  <dc:title>I Am the God That Healeth Thee</dc:title>
</cp:coreProperties>
</file>