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 Me, O Go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ty Haugen (Ps. 2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 me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want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f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 into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80880" y="8064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 your kindness and mercy follow me all the days of my lif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dwell in the house of God forever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 me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want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f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 into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 me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want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f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 into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my shepherd, so nothing shall I wa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est in the meadows of faithfulness and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lk by the quiet waters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 me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want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f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 into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y you raise me and heal my weary sou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lead me by pathways of righteousness and tru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pirit shall sing the music of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 me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want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f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 into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I should wander the valley of d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fear no evil, for you are at my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rod and your staff, my comfort and hop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 me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want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f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 into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441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set me a banquet of love in the face of hat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44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ing me with love beyond my power to h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3-06-21T21:02:32Z</dcterms:modified>
  <cp:revision>21</cp:revision>
  <dc:subject/>
  <dc:title>A Shield About Me</dc:title>
</cp:coreProperties>
</file>