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Peac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Riv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4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frican American Spiritu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peace like a ri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peace like a ri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peace like a rive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peace like a ri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peace like a ri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peace like a rive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joy like a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joy like a f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joy like a founta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joy like a foun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joy like a f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joy like a founta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love like an oce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love like an oce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love like an ocea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love like an oce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love like an oce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got love like an ocea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0:46Z</dcterms:created>
  <dc:creator>Gary Wintergerst</dc:creator>
  <dc:description/>
  <dc:language>en-US</dc:language>
  <cp:lastModifiedBy>Gary Wintergerst</cp:lastModifiedBy>
  <cp:lastPrinted>1996-01-02T13:57:40Z</cp:lastPrinted>
  <dcterms:modified xsi:type="dcterms:W3CDTF">2001-03-04T00:56:23Z</dcterms:modified>
  <cp:revision>9</cp:revision>
  <dc:subject/>
  <dc:title>No Slide Title</dc:title>
</cp:coreProperties>
</file>