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Gloria a Dio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d. Peruvian (Luke 2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en los ceil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 Jesus Chris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Christ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l Espirit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the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Christ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glory to God, glory to the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glory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en los ceil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 Jesus Chris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17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Gloria a Dios, gloria a Dios, gloria al Espirit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 Dios la gloria por siemp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eluya, Amé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2:01:49Z</dcterms:modified>
  <cp:revision>16</cp:revision>
  <dc:subject/>
  <dc:title>As the Deer</dc:title>
</cp:coreProperties>
</file>