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Forth the Kingdom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9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Marty Haugen (Matt. 5:13-16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6 GIA Publications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salt for the earth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eopl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lt for the Kingdom of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re the flavor of life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eopl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is the Kingdom of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forth the Kingdom of merc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forth the Kingdom of peac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forth the Kingdom of justi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forth the City of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a light on the hill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eopl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for the City of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e so holy and bright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eopl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e for the Kingdom of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forth the Kingdom of merc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forth the Kingdom of peac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forth the Kingdom of justi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forth the City of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687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a seed of the Word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eopl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7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forth the the Kingdom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7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ds of mercy and seeds of justi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7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ow in the Kingdom of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forth the Kingdom of merc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forth the Kingdom of peac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forth the Kingdom of justi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forth the City of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a blest and a pilgrim peopl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und for the Kingdom of Go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our journey and love our homeland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is the Kingdom of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forth the Kingdom of merc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forth the Kingdom of peac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forth the Kingdom of justi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forth the City of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11T04:48:51Z</dcterms:modified>
  <cp:revision>47</cp:revision>
  <dc:subject/>
  <dc:title>I Am the God That Healeth Thee</dc:title>
</cp:coreProperties>
</file>