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Confitemini Domin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3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, O Lord are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 quoniam bon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, O Lord are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 quoniam bon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our hearts with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temini Domino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5T05:38:11Z</dcterms:modified>
  <cp:revision>18</cp:revision>
  <dc:subject/>
  <dc:title>No Slide Title</dc:title>
</cp:coreProperties>
</file>