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6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e Horness (Phil. 3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06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Ever Devoted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ove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in all of your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you with all th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f my heart, Lord, this is my praye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you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20:00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3-05T05:48:52Z</dcterms:modified>
  <cp:revision>15</cp:revision>
  <dc:subject/>
  <dc:title>I Am the God That Healeth Thee</dc:title>
</cp:coreProperties>
</file>