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3341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Is Here Today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(Dios Está Aquí)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049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Trad. Mexica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99 Choristers Guild (Trans.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is here today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certain as the air I breath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certain as the morning sun that rise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certain when I sing you'll hear my song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ios está aquí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an cierto como el aire que respirio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an cierto como la mañana se levanta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an cierto como que le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anto y me puede oí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ios está aquí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an cierto como el aire que respirio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is here today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certain as the air I breath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05320"/>
            <a:ext cx="91440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an cierto como la mañana se levanta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an cierto como que le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anto y me puede oí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certain as the morning sun that rise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certain when I sing you'll hear my song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3505320"/>
            <a:ext cx="91440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6T20:29:32Z</dcterms:created>
  <dc:creator>Gary Wintergerst</dc:creator>
  <dc:description/>
  <dc:language>en-US</dc:language>
  <cp:lastModifiedBy>Gary Wintergerst</cp:lastModifiedBy>
  <cp:lastPrinted>1995-07-02T14:48:50Z</cp:lastPrinted>
  <dcterms:modified xsi:type="dcterms:W3CDTF">2001-06-09T14:00:25Z</dcterms:modified>
  <cp:revision>14</cp:revision>
  <dc:subject/>
  <dc:title>A Shield About Me</dc:title>
</cp:coreProperties>
</file>