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ragrance of Chri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0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David Ha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9 GIA Publication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may our prayer rise like incense in your s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is place be filled with the fragrance of Chri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thank you, Lord, with all of my hea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have heard the word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my mou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presence of the Lord I will bless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adore before your holy temp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may our prayer rise like incense in your s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is place be filled with the fragrance of Chri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thank you, Lord, for your faithfulness and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yond all my hopes and dream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day that I calle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nswere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gave life to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ength of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may our prayer rise like incense in your s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is place be filled with the fragrance of Chri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 live on earth shall give you thank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y hear all the words of your voi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shall sing of your ways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How great is the glory of God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may our prayer rise like incense in your s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is place be filled with the fragrance of Chri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16T15:49:44Z</dcterms:modified>
  <cp:revision>8</cp:revision>
  <dc:subject/>
  <dc:title>In His Time</dc:title>
</cp:coreProperties>
</file>