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9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Amen Siakudumisa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516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Xhosa (South Africa)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Genl. Bd. Global Mi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bawo, amen, baw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7632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bawo, amen, baw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63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bawo, amen, baw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 siakudumis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Masithi.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bawo, amen, baw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we praise y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ing ame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3T04:55:08Z</dcterms:modified>
  <cp:revision>63</cp:revision>
  <dc:subject/>
  <dc:title>A Shield About Me</dc:title>
</cp:coreProperties>
</file>