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M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anet Lunt (1 Cor. 11:23-2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8 Sovereign Music U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ody of Jesu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offered his body;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poured out his sou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as broken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 might be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ody of Jesu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my table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h me di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t of my brea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rink of my w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ody of Jesu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body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n for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t it remembering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ied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ody of Jesu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blood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ed for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8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r forgiveness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ing you 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me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ody of Jesus,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7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19:15:59Z</dcterms:modified>
  <cp:revision>31</cp:revision>
  <dc:subject/>
  <dc:title>Walk With Me</dc:title>
</cp:coreProperties>
</file>