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ding Pl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Ledner (Ps. 32: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 hiding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ways fill my heart with songs of delivera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ever I am afraid, I will trust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eak say, "I am strong in the strength of the Lor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 hiding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ways fill my heart with songs of deliveran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ever I am afraid, I will trust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eak say, "I am strong in the strength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you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46:44Z</dcterms:modified>
  <cp:revision>18</cp:revision>
  <dc:subject/>
  <dc:title>A Shield About Me</dc:title>
</cp:coreProperties>
</file>